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D383-FD75-4F8F-B5DC-C6FD9F4C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2F7-3DAE-41D7-8F7A-845B1E33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76D5-F515-4111-9397-4EC42E21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38EF-F046-4871-BF4D-BD22E897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5DA8-9DBE-465B-8F09-A62E4E30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1185-67D6-4A92-A9AC-ED7A3C4C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A0F0-D23F-4066-8221-A1CC1BD8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79BB-4773-42C7-B173-B60A5F16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9475-2FE6-4604-937A-7CAA3443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F628-D114-4D69-A491-32DADE0D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16EE-99F1-4608-81EA-3F595DF9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86B8-C9C5-478D-8149-43C92860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D29E-7384-4591-9D8F-7CABB262E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lencoe.com/" TargetMode="External"/><Relationship Id="rId2" Type="http://schemas.openxmlformats.org/officeDocument/2006/relationships/hyperlink" Target="mailto:hzumaeta@renaissancecharter.org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8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0 de en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8991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26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én fue Emiliano Zap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en oraciones complet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 veces, ¿te enfadan tus amig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Siempre estas de buen hum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s una sonrisa en la cara cuando estas de buen hum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stas triste o contento si recibes una nota ma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deporte te interesa 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 dia de cultura lat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s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3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3 (1-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3 (1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8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LINE QUIZ!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NO LATER THAN MIDNIGHT TONIGHT!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glenco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PassCode: ASD4003c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READING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n dia de cultura latina Self-check qu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submitting the quiz, complete the bottom section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your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ION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 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your 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TEACHER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zumaeta@renaissancecharter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7T21:23:13Z</dcterms:created>
  <dc:creator>Helen Zumaeta</dc:creator>
  <dc:description/>
  <dc:language>en-US</dc:language>
  <cp:lastModifiedBy>Helen Zumaeta</cp:lastModifiedBy>
  <dcterms:modified xsi:type="dcterms:W3CDTF">2013-01-10T21:12:05Z</dcterms:modified>
  <cp:revision>7</cp:revision>
  <dc:subject/>
  <dc:title>Me llamo ________ Clase 8im La fecha es el 8 de enero del 2013</dc:title>
</cp:coreProperties>
</file>